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284-3339-444B-A022-AF7746BF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28F-AD6C-4C96-BD50-3A7A05F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A08-9F68-4601-8098-93C7AC67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25D-C0FB-440A-8BC3-BD3F1BA0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7B7C-63C0-41B7-8A48-E3B0E8E5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5444-994D-4CD0-B180-0822E12A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BC3-8A8C-4196-B775-7DA8BF13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8514-4089-48A2-B7D3-566C0699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DA33-6744-4503-BB4E-135DD26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81B5-CB7D-495B-A355-0805B7B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E70F-427C-4319-A769-B078A3C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250-9403-4BC9-853E-8CB7344F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C0FC-4C5D-4233-A9C3-6C5536B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42F1-919D-4214-B443-9D93265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244-A27A-42F0-860C-01350B0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F792-2E60-47AD-BBCA-F1C71390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39AA-4868-452C-BCDB-142EC6C1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489-1BE3-4F64-9A3D-E559C9C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3C6-70BB-4A4E-A79E-A29EC58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DF3-0629-414D-ABC6-4E87EB37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BBD-5FEA-4CFA-AFDA-1F78A40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4D8-8198-4530-BFD7-C21A5C0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93E-27D7-4509-A719-9793F14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4DE-9F5B-400D-9735-B21CB63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F64-B74F-4AD9-B775-C048903BC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93AB-EE5B-40E3-84C6-1FAFDB809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on of Independence and Revolutionary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re some of the grievances of the colonists leading up to the Revolutionary w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gar Act, the Stamp Act, the Tea Act and other taxes enforced by Great Britain. Also the Boston Massacre increased the colonists grievances with Great Brit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easons did the Founding Fathers give for writing the Declaration of Independ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in independence from Great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Declaration, what natural or unalienable rights do peopl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suit of happi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Declaration, what should people do if government abuses its po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government abuses its power then the people have the right to overthrow the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erritory did the new United States occupy after the Treaty of Paris was signed, ending the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 occupied the same northern border that it today shares with Canada, but was expanded west to the Mississippi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09:10Z</dcterms:created>
  <dc:creator>Yarmouth Schools</dc:creator>
  <dc:description/>
  <dc:language>en-US</dc:language>
  <cp:lastModifiedBy>YHS Teacher</cp:lastModifiedBy>
  <dcterms:modified xsi:type="dcterms:W3CDTF">2009-06-15T14:54:31Z</dcterms:modified>
  <cp:revision>2</cp:revision>
  <dc:subject/>
  <dc:title>Declaration of Independence and Revolutionary War</dc:title>
</cp:coreProperties>
</file>